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7EE3-12D9-422A-AEB6-958BF610C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DD5-29F1-495B-9FEE-9B500427C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F54-691E-412E-A337-D16D6078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DEC-605E-438C-8BAD-96B354C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C5C-4927-4A0B-BF84-897A4017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C50-5A73-45BE-8C1D-51C27F46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014-2EFA-4A19-90AD-0B2117B4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8E2-2DA9-4FF8-A351-F7859EE7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F30-5CA5-4788-9FA8-F88917B9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6E6-77FE-477A-8F4E-3FBFF42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702-AC79-45EE-800D-55FA6FF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533-9A09-4A2B-BD54-3E318B2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E52-BD56-441B-8D65-D48AB89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CE2-6021-4EB1-9533-4F419DB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070-CD79-4A1D-8DAE-8172C59F7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Yellow_finch_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zootorg.com/images/normal/125379.jpg" TargetMode="External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passerammodendri.0/0_85bf_8fefb730_X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upload.wikimedia.org/wikipedia/commons/0/07/Paxaro_GDFL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upload.wikimedia.org/wikipedia/commons/7/76/Zebra_finch_female.JPG" TargetMode="External"/><Relationship Id="rId6" Type="http://schemas.openxmlformats.org/officeDocument/2006/relationships/image" Target="../media/image17.jpe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f/Budgerigar_map.png" TargetMode="External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velikaya.ru/wp-content/gallery/pets/20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deladoma.ru/images/stories/statyi/domashnie-zhivotnue/Melopsittacus-undulatus2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0.liveinternet.ru/images/foto/b/0/apps/1/0/1000044_x_5a5ac06e.jpg" TargetMode="External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Wellensittich02.jpg" TargetMode="Externa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historic-cities.ru/UserFiles/Image/82398/lm_indo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http://ru.wikipedia.org/wiki/&#1060;&#1072;&#1081;&#1083;:Zebrafinchchicks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hyperlink" Target="http://upload.wikimedia.org/wikipedia/commons/c/ca/JavaLocatie-1-.png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ru.wikipedia.org/wiki/&#1060;&#1072;&#1081;&#1083;:Indonesia_(orthographic_projection).svg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ru.wikipedia.org/wiki/&#1060;&#1072;&#1081;&#1083;:Bali_Labeled.png" TargetMode="Externa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rds.net.ua/media/gallery/images/13_________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/H:/&#1087;&#1088;&#1086;&#1080;&#1089;&#1093;&#1086;&#1078;&#1076;&#1077;&#1085;&#1080;&#1077;.pptx" TargetMode="Externa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_uploads/j7116_1233387687.jpg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wiki/66/Buberel_Unknown_bird_3.j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58800" y="1547640"/>
            <a:ext cx="8161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Файл:Yellow finch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948120" cy="31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Картинка 61 из 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3024360" cy="44769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лево 3">
            <a:hlinkClick r:id="rId5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инка 1 из 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28608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айл:Paxaro GDFL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357720"/>
            <a:ext cx="3376800" cy="25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Файл:Zebra finch femal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214200"/>
            <a:ext cx="4170600" cy="2778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>
            <a:hlinkClick r:id="rId7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Файл:Budgerigar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7345080" cy="438948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>
            <a:hlinkClick r:id="rId4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Картинка 23 из 38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920" y="428760"/>
            <a:ext cx="2097000" cy="31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артинка 12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5880" y="3286080"/>
            <a:ext cx="3529080" cy="269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4 из 38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3286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5">
            <a:hlinkClick r:id="rId8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42960" y="18572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: 17—19,8 с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 крыла — 9,3— 9,4 с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воста — 8—10 с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40—45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357120" y="2571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жизни попугаев в среднем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928800" y="1214280"/>
            <a:ext cx="757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 Н. Норден (A. N. Norden) в 1959 году исследовал зоб свободноживущих попугайчиков. При этом выяснилось, что основной пищей волнистых попугайчиков является травянистая растительность. Однако более поздние исследования доказали, что волнистые попугайчики питаются и насеко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5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853920" y="1828800"/>
            <a:ext cx="774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1214280" y="1714680"/>
            <a:ext cx="707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а откладывает 4-6 белых яиц, прямо на дно дупла без подстилки и насиживает их в течение 18-20 дней. Самец в это время подкармливает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714240" y="12859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аривания, обычно выбирают попугайчиков одного возраста, но можно и разного возраста. Оперение может быть любого цвета. Тем лучше если попугайчики жили в паре не мало времени. Попугайчики могут размножаться до 5 лет. Они размножаются когда у них есть желания и домик. Зрелый возраст у попугайчика 1 год. Без домика попугайчики не размножаются и яйца не отклад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Файл:Wellensittich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3800160" cy="570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7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>
                <a:solidFill>
                  <a:srgbClr val="677f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9"/>
          <p:cNvSpPr/>
          <p:nvPr/>
        </p:nvSpPr>
        <p:spPr>
          <a:xfrm>
            <a:off x="4716360" y="134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471636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4716360" y="234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2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4716360" y="3716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5"/>
          <p:cNvSpPr/>
          <p:nvPr/>
        </p:nvSpPr>
        <p:spPr>
          <a:xfrm>
            <a:off x="4716360" y="422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Canarias-rotulado.png"/>
          <p:cNvPicPr/>
          <p:nvPr/>
        </p:nvPicPr>
        <p:blipFill>
          <a:blip r:embed="rId2"/>
          <a:stretch/>
        </p:blipFill>
        <p:spPr>
          <a:xfrm>
            <a:off x="755640" y="260280"/>
            <a:ext cx="48895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5 из 770"/>
          <p:cNvPicPr/>
          <p:nvPr/>
        </p:nvPicPr>
        <p:blipFill>
          <a:blip r:embed="rId3"/>
          <a:stretch/>
        </p:blipFill>
        <p:spPr>
          <a:xfrm>
            <a:off x="4284720" y="2421000"/>
            <a:ext cx="4429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71720" y="121428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комнатной канарейки составляет 12−14 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й вид несколько меньше домашней формы:12—13 см длино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8596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сбалансированном кормлении продолжительность жизни канарейки составляет 10-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14240" y="11430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ется почти исключительно растительной пищей: мелкими семенами, нежной зеленью и сочными плод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85716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стройке своих изящных гнёзд дикие канарейки приступают в марте и кладут обыкновенно пять бледно-голубовато-зеленоватых яиц. Насиживание продолжается, как и у домашней - 13 д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лево 3">
            <a:hlinkClick r:id="rId1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5280" y="260280"/>
            <a:ext cx="4608360" cy="3062520"/>
            <a:chOff x="395280" y="260280"/>
            <a:chExt cx="4608360" cy="3062520"/>
          </a:xfrm>
        </p:grpSpPr>
        <p:pic>
          <p:nvPicPr>
            <p:cNvPr id="132" name="" descr="Файл:Carduelis spinus 2 tom (Marek Szczepanek).jpg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6083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00360" y="2565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Чиж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3640" y="3365640"/>
            <a:ext cx="3660840" cy="3163680"/>
            <a:chOff x="5003640" y="3365640"/>
            <a:chExt cx="3660840" cy="3163680"/>
          </a:xfrm>
        </p:grpSpPr>
        <p:pic>
          <p:nvPicPr>
            <p:cNvPr id="135" name="" descr="Файл:De Stieglitz lat Carduelis carduelis.jpg"/>
            <p:cNvPicPr/>
            <p:nvPr/>
          </p:nvPicPr>
          <p:blipFill>
            <a:blip r:embed="rId3"/>
            <a:stretch/>
          </p:blipFill>
          <p:spPr>
            <a:xfrm>
              <a:off x="5003640" y="3365640"/>
              <a:ext cx="366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77080" y="3645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Ще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ка 83 из 4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620640"/>
            <a:ext cx="6800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14240" y="171468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птицы около 10 с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трелка влево 4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00080" y="121428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в дикой природе 5 — 10 лет. Максимальная зарегистрированная продолжительность жизни — до 15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57160" y="2286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ются мелкими семенами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774720" y="2120760"/>
            <a:ext cx="7570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upload.wikimedia.org/wikipedia/commons/thumb/b/b9/Zebrafinchchicks.jpg/250px-Zebrafinchchic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14200"/>
            <a:ext cx="385740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1785960" y="3929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кладки 4-6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43120" y="4786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я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5716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, зебровых амадин заводят парами. Если вы купили только мальчика или девочку для того чтобы разместить их в одну клетку необходимо сначала где-то с недельку их подержать в отдельных клетках рядом чтобы они попривыкли друг к другу и чтобы при переселении самочки в клетку самца, самец не затоптал самочку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Файл:JavaLocatie-1-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549360"/>
            <a:ext cx="45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Indonesia (orthographic projection)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306864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148428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57160" y="1785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л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 — 14 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трелка влево 2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928800" y="1214280"/>
            <a:ext cx="735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уходе и кормлении эти птички живут в неволе 7-10 лет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642960" y="1143000"/>
            <a:ext cx="77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итания рисовка — зерноядная птица, и на своей родине она наносит большой вред рисовым полям. В неволе рисовок следует кормить, как и других представителей семейства астрильдовых, разными сортами проса с добавлением семян канареечного семени и овсяной крупы. В летнее время нужно давать разнообразную зелень: одуванчики, мокрицу, салат, колосья молодого овса и проса. Зимой рисовки будут хорошо поедать слегка пророщенное просо, всходы злаковых растений, листья белокочанной капусты, яблоко, тёртую морковь. В период размножения нужно регулярно давать куриное яйцо, сваренное вкрутую, мучных червей, мот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92880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57160" y="107172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змножения пригодны особи не моложе года. В начале рисовки таскают в гнездо толстые травинки, но дальше, им нужен более "мягкий" материал: мелкое сено, мох, увядшие листья, пёрышки. Обычно самка откладывает 4-6 яиц. Насиживают кладку обе птицы, сменяя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13-14 суток после начала насиживания вылупляются птенцы, а через 30-35 дней (иногда раньше) они покидают гнездо. После вылета из гнезда родители продолжают кормить их ещё 14-18 дней. Когда птенцы начнут самостоятельно питаться, их нужно отсадить. Молодые рисовки окрашены в однотонный серый цвет. Примерно в возрасте 6-8 месяцев молодые птицы приобретают наряд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лево 1">
            <a:hlinkClick r:id="rId2" action="ppaction://hlinksldjump"/>
          </p:cNvPr>
          <p:cNvSpPr/>
          <p:nvPr/>
        </p:nvSpPr>
        <p:spPr>
          <a:xfrm>
            <a:off x="714240" y="6000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6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Картинка 296 из 280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313080" cy="4817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>
            <a:hlinkClick r:id="rId3"/>
          </p:cNvPr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 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714920" y="4572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725480"/>
            <a:ext cx="81568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Картинка 14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Совместим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530360" y="2120760"/>
            <a:ext cx="60897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Картинка 16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143000"/>
            <a:ext cx="3954600" cy="447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716360" y="476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исхожде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716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Разме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16360" y="278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Питан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16360" y="134136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ие самки от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714920" y="2286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Продолжительность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716360" y="321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716360" y="3716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Период 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Кладка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716360" y="47242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16"/>
          <p:cNvPicPr/>
          <p:nvPr/>
        </p:nvPicPr>
        <p:blipFill>
          <a:blip r:embed="rId1"/>
          <a:stretch/>
        </p:blipFill>
        <p:spPr>
          <a:xfrm>
            <a:off x="468360" y="765000"/>
            <a:ext cx="3460680" cy="518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815"/>
          <p:cNvPicPr/>
          <p:nvPr/>
        </p:nvPicPr>
        <p:blipFill>
          <a:blip r:embed="rId2"/>
          <a:stretch/>
        </p:blipFill>
        <p:spPr>
          <a:xfrm>
            <a:off x="5214960" y="285840"/>
            <a:ext cx="22557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РИСОВКА"/>
          <p:cNvPicPr/>
          <p:nvPr/>
        </p:nvPicPr>
        <p:blipFill>
          <a:blip r:embed="rId3"/>
          <a:stretch/>
        </p:blipFill>
        <p:spPr>
          <a:xfrm>
            <a:off x="4429080" y="3786120"/>
            <a:ext cx="385776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Стрелка влево 1">
            <a:hlinkClick r:id="rId4" action="ppaction://hlinksldjump"/>
          </p:cNvPr>
          <p:cNvSpPr/>
          <p:nvPr/>
        </p:nvSpPr>
        <p:spPr>
          <a:xfrm>
            <a:off x="755640" y="623736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04:17Z</dcterms:created>
  <dc:creator>студент</dc:creator>
  <dc:description/>
  <dc:language>en-US</dc:language>
  <cp:lastModifiedBy>AUD312</cp:lastModifiedBy>
  <dcterms:modified xsi:type="dcterms:W3CDTF">2010-05-22T09:03:19Z</dcterms:modified>
  <cp:revision>63</cp:revision>
  <dc:subject/>
  <dc:title>Слайд 1</dc:title>
</cp:coreProperties>
</file>